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947-0FE2-43AE-A416-1363604E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F59-5FCC-4EBA-8B5D-8AB5D40B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0BF-31FA-4CD3-A1C6-39E99A84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A22E-1FEF-4047-8AF9-33CC619E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E2FE-2B2F-416E-93BB-C7F288F8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D1AE-123E-41CF-B460-75C1466D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7EA5-4267-4647-BD67-151F301D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E758-DDF9-48FE-B55E-86EF7AF0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1402-72BF-41DA-B68A-B28A073A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4623-F7D7-4A66-BCB6-4CDC2DA2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BB71-1078-4EAA-85B6-A2D7D504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D78-2193-4552-97BC-8AA0CAE2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2D71-6906-4642-98D8-5ED1F383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675A-5CFC-411E-A69E-215A3BB6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CFA3-981F-4025-93ED-810A5E46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CE22-A003-4963-9162-516CA8B3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A7EB-2C6A-4B8E-AB0E-8F766E67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DC57-FF35-4F4A-AC3D-007E192D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255D-0578-4502-9736-69BD1FA2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D298-5247-462E-906E-0B725909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E31B-23D8-4F26-8120-E0D09E14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CE60-43A2-43BB-B851-2AB0F099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BE5-1EA2-4217-A294-2FFD9D14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7BB-9345-48E5-BAE0-551A7A64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E16B-497A-4CFE-A06D-8DE855373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4B36-6A69-4E51-BADB-F01C537D6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Go Tell The Good News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art 2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12, Lesson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 of 1 Corinthians 8-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s 143-1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1730-6406-495D-90F4-503D67E3DF4C}" type="slidenum">
              <a:t>1</a:t>
            </a:fld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gifts, but the same Spir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activities, but the same God who works all in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gifts are given individually by the Spirit for the profit of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d has set function and abilities of different kinds in the church and they are not in competition with each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795-EA61-4135-93A0-95CF2588D4A6}" type="slidenum">
              <a:t>10</a:t>
            </a:fld>
          </a:p>
        </p:txBody>
      </p:sp>
    </p:spTree>
  </p:cSld>
  <p:transition>
    <p:comb dir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one Spirit we were all baptized into one body, but the body is not one member but m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nestly desire the best gifts, yet love is a more excellent 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ever gift we might have, even if we give our bodies to be burned and don’t have love, we are not profi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ve never fails, spiritual gifts will c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8FE0-9669-43E4-8F54-F408AD7663B3}" type="slidenum">
              <a:t>11</a:t>
            </a:fld>
          </a:p>
        </p:txBody>
      </p:sp>
    </p:spTree>
  </p:cSld>
  <p:transition>
    <p:comb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at which is perfect is come, then that which is in part will be done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will abide faith, hope and love, but the greatest of these is l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k to edify, to teach by your g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orderly, God is not the source of con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the women be silent (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ot taking a public ro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 in the assemb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B6BA-7F73-462F-8579-5A69517AA7B0}" type="slidenum">
              <a:t>12</a:t>
            </a:fld>
          </a:p>
        </p:txBody>
      </p:sp>
    </p:spTree>
  </p:cSld>
  <p:transition>
    <p:comb dir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teach there is no resu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re is no resurrection from the dead then Christ is not ri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Christ is not risen, then preaching is vain and faith is vain and all are still in s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ist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isen and has become the firstfruits of those who have d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ist will reign until all enemies are destroyed and the last enemy destroyed is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E70-2149-4980-8308-571BC1693B3B}" type="slidenum">
              <a:t>13</a:t>
            </a:fld>
          </a:p>
        </p:txBody>
      </p:sp>
    </p:spTree>
  </p:cSld>
  <p:transition>
    <p:comb dir="ver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cerning the collection for the sai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first day of the week let each one of you lay something a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 as you have been prosp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al exhor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ch, stand fast in the faith, be brave, be str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 all that you do be done with l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9BD-5B76-4644-A46C-CB41D2353BA6}" type="slidenum">
              <a:t>14</a:t>
            </a:fld>
          </a:p>
        </p:txBody>
      </p:sp>
    </p:spTree>
  </p:cSld>
  <p:transition>
    <p:comb dir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0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3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DE78-7ECB-4A4A-A575-AEAD1BA5FB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rning things offered to idol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have knowledge but it can puff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ve edifies and seeks to do what is good for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idol is a god, it is nothing and there is no other God but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t sacrificed to idols is not contamin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what about the weak broth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92B-9823-4600-B5B1-E8CD97B49702}" type="slidenum">
              <a:t>3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the right to eat meat sacrificed to idols cause another to defile his conscien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ware lest our liberty cause a weak brother to stum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states, “if food makes my brother stumble, I will never again eat meat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said that he had “rights”, but he hadn’t used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sked, am I not an apostle? Am I not free? Are you not my work in the Lord? Do we have no right to eat and drin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F35C-E54B-4CD3-80DE-CF7608BFF193}" type="slidenum">
              <a:t>4</a:t>
            </a:fld>
          </a:p>
        </p:txBody>
      </p:sp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had lived in whatever style necessary in order to convert men to chr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 your goal and strive for a c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rive for a perishable crown, but we for an imperishable 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: “I discipline my body and bring it into subjection lest I myself should become disqualifie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Jewish fathers were baptized into Moses, all ate the same spiritual food and drank the same spiritual drink ,yet most of them displeased G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example is our w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F6E-5652-4E9C-A983-B6BCEB5ECBCF}" type="slidenum">
              <a:t>5</a:t>
            </a:fld>
          </a:p>
        </p:txBody>
      </p:sp>
    </p:spTree>
  </p:cSld>
  <p:transition>
    <p:zoom dir="in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become idolaters, do not commit sexual immorality, do not tempt Ch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him who thinks he stands take heed lest he 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e idolatry and judge for yourselves, the cup of blessing , is it not the communion of the blood of Christ? The bread which we break, is it not the communion of the body of Chri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not be joined to the Lord and to the Devil at the sam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F26-2C5D-40D5-A84D-FC9F4F1A0220}" type="slidenum">
              <a:t>6</a:t>
            </a:fld>
          </a:p>
        </p:txBody>
      </p:sp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piritual Rights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8:1-11:1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ings that are lawful may not be helpful or edif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offered meat without comment, eat it ,but if told it was offered to idols, don’t eat it for the sake of the one who told you and for conscience’ s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itate Paul just as he also imitated Ch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B6C-6F61-4353-966E-8AC2ABB0E8CB}" type="slidenum">
              <a:t>7</a:t>
            </a:fld>
          </a:p>
        </p:txBody>
      </p:sp>
    </p:spTree>
  </p:cSld>
  <p:transition>
    <p:checker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ad cove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 is head over man and man is head over wo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man who prays or prophesies with his head covered dishonors his 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woman who prays or prophesies with her head uncovered dishonors her 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 is the image and glory of God, but woman is the glory of 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8D10-E21F-4B0E-AA6D-72A46BD06E10}" type="slidenum">
              <a:t>8</a:t>
            </a:fld>
          </a:p>
        </p:txBody>
      </p:sp>
    </p:spTree>
  </p:cSld>
  <p:transition>
    <p:checker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 Summary Of Problems &amp; Spiritual Gifts etc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1 Cor. 11:2-16:24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ake of the Lord’s supper with proper rev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make it a common m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are hungry, eat and drink in your own hous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partaking of the Lord’s supper, wait for one an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read represents Christ’s body and the cup represents Christ’s bl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must eat and drink in a worthy manner discerning the Lord’s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3A24-5FB6-470A-AFD3-65205D383954}" type="slidenum">
              <a:t>9</a:t>
            </a:fld>
          </a:p>
        </p:txBody>
      </p:sp>
    </p:spTree>
  </p:cSld>
  <p:transition>
    <p:comb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05:56:07Z</dcterms:created>
  <dc:creator>billy lauderdale</dc:creator>
  <dc:description/>
  <dc:language>en-US</dc:language>
  <cp:lastModifiedBy>billy lauderdale</cp:lastModifiedBy>
  <dcterms:modified xsi:type="dcterms:W3CDTF">2006-12-21T22:05:11Z</dcterms:modified>
  <cp:revision>31</cp:revision>
  <dc:subject/>
  <dc:title>Go Tell The Good News Part 2</dc:title>
</cp:coreProperties>
</file>